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468-DED9-4494-8C45-90332797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DA4-B16A-43EB-A4DB-2F3BC05B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DEC-9CC5-4131-93BA-AF64BD84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AC4-74F8-49B5-8BC8-F47BDB31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6E8-D0D7-4157-8A9B-97C02043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34F-0654-4A00-8D1F-8C09F1E9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E93-F58D-476F-AFAD-4D1DA13F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B90-64E2-4C15-8814-F0F2196D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712-303D-4603-8169-00207111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656-E21B-45AA-9A3A-62C572D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9B6-1547-4CBB-95D2-473B57CF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16E-0482-43E1-A81B-3FA90779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D31B-419A-41F6-A3DC-2669CA495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223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4"/>
          </p:nvPr>
        </p:nvSpPr>
        <p:spPr>
          <a:xfrm>
            <a:off x="3124080" y="656100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JE Campagne Branville 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836640"/>
            <a:ext cx="861084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760" y="652464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440" y="34920"/>
            <a:ext cx="106848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grand laboratoire au Fréjus pour MEMPHY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5157720"/>
            <a:ext cx="4681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ût estimé 1 cavité stabilisée ≈ 80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quipé de 80,000 PMTs 12’’     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≈ 80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9640" y="1700280"/>
            <a:ext cx="291636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49480" y="1125360"/>
            <a:ext cx="88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sultat d’une étude préliminaire par la Société SETEC (constructeur du tu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860640"/>
            <a:ext cx="63370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Tunnel de Sécurité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ff66"/>
                </a:solidFill>
                <a:latin typeface="Arial"/>
              </a:rPr>
              <a:t>mars 2006   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ccff66"/>
                </a:solidFill>
                <a:latin typeface="Arial"/>
              </a:rPr>
              <a:t>8.20m 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ff66"/>
                </a:solidFill>
                <a:latin typeface="Arial"/>
              </a:rPr>
              <a:t>Comité de Sécurité Franco-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ecff"/>
                </a:solidFill>
                <a:latin typeface="Arial"/>
              </a:rPr>
              <a:t>21 avril 2006</a:t>
            </a:r>
            <a:r>
              <a:rPr b="0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8.00</a:t>
            </a: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m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 “utiles”</a:t>
            </a: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 par la 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Commission Inter-Gouvernementale Franco-Ital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6004080" cy="200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36720" y="2054160"/>
            <a:ext cx="352116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 LSM dans sa forme ac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565360"/>
            <a:ext cx="142920" cy="5032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3068640"/>
            <a:ext cx="863640" cy="1440"/>
          </a:xfrm>
          <a:custGeom>
            <a:avLst/>
            <a:gdLst/>
            <a:ahLst/>
            <a:rect l="l" t="t" r="r" b="b"/>
            <a:pathLst>
              <a:path w="544" h="1">
                <a:moveTo>
                  <a:pt x="0" y="0"/>
                </a:moveTo>
                <a:cubicBezTo>
                  <a:pt x="226" y="0"/>
                  <a:pt x="453" y="0"/>
                  <a:pt x="544" y="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16000" y="2708280"/>
            <a:ext cx="719280" cy="122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94280" y="4076640"/>
            <a:ext cx="2357640" cy="2587680"/>
            <a:chOff x="6794280" y="4076640"/>
            <a:chExt cx="2357640" cy="2587680"/>
          </a:xfrm>
        </p:grpSpPr>
        <p:sp>
          <p:nvSpPr>
            <p:cNvPr id="131" name=""/>
            <p:cNvSpPr/>
            <p:nvPr/>
          </p:nvSpPr>
          <p:spPr>
            <a:xfrm>
              <a:off x="7331040" y="450684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9880" y="4105080"/>
              <a:ext cx="1525680" cy="161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9440" y="4500360"/>
              <a:ext cx="136368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451640" y="4728600"/>
              <a:ext cx="1268640" cy="41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19720" y="407664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  <a:ea typeface="ＭＳ Ｐゴシック"/>
                </a:rPr>
                <a:t>6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7424640" y="4895640"/>
              <a:ext cx="28800" cy="154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0800" y="4489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1680" y="5257800"/>
              <a:ext cx="831960" cy="1298520"/>
            </a:xfrm>
            <a:prstGeom prst="can">
              <a:avLst>
                <a:gd name="adj" fmla="val 25000"/>
              </a:avLst>
            </a:prstGeom>
            <a:solidFill>
              <a:srgbClr val="6e2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94280" y="530532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Comic Sans MS"/>
                  <a:ea typeface="ＭＳ Ｐゴシック"/>
                </a:rPr>
                <a:t>6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2920" y="5950080"/>
            <a:ext cx="40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3 puits = 440kT fid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380000" y="2852640"/>
            <a:ext cx="431640" cy="12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95008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puits = 4x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détecteu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Č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renkov à Eau dans le m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477720"/>
          <a:ext cx="9144000" cy="6356520"/>
        </p:xfrm>
        <a:graphic>
          <a:graphicData uri="http://schemas.openxmlformats.org/drawingml/2006/table">
            <a:tbl>
              <a:tblPr/>
              <a:tblGrid>
                <a:gridCol w="1619280"/>
                <a:gridCol w="3024000"/>
                <a:gridCol w="221472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O (U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 (Jap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PHYS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borat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nderson/Homest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chib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éj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f. M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0/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BL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÷2760/1280÷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msensions du dét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c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tunnels de 5 compart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à 5 p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x60x60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m x L:5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m x L:6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 fid. 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0 à 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todet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’’ P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’’ H(A)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’’ P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000 (mili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x 9500 (co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,000 par compart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,000 par p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uver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/10% (milieu/co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ût estimé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M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 Oku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1M€ x #puits +100M€ infr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514480" y="5805360"/>
            <a:ext cx="36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50% excavation + 50% Photo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411280" y="1989000"/>
            <a:ext cx="2043360" cy="2509920"/>
            <a:chOff x="2411280" y="1989000"/>
            <a:chExt cx="2043360" cy="2509920"/>
          </a:xfrm>
        </p:grpSpPr>
        <p:sp>
          <p:nvSpPr>
            <p:cNvPr id="147" name=""/>
            <p:cNvSpPr/>
            <p:nvPr/>
          </p:nvSpPr>
          <p:spPr>
            <a:xfrm>
              <a:off x="2698200" y="2537640"/>
              <a:ext cx="82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ahoma"/>
                  <a:ea typeface="ＭＳ Ｐゴシック"/>
                </a:rPr>
                <a:t>1st p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9720" y="3605400"/>
              <a:ext cx="82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ahoma"/>
                  <a:ea typeface="ＭＳ Ｐゴシック"/>
                </a:rPr>
                <a:t>2nd p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411280" y="2092680"/>
              <a:ext cx="2012400" cy="232416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433960" y="1989000"/>
              <a:ext cx="202068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635200" y="2745720"/>
              <a:ext cx="397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0 p.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1000" y="3459960"/>
              <a:ext cx="884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30,000 electr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52640" y="3613320"/>
              <a:ext cx="226080" cy="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6520" y="2981520"/>
              <a:ext cx="0" cy="19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7200" y="2246040"/>
              <a:ext cx="397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1 p.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85920" y="2373480"/>
              <a:ext cx="181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406520" y="3860640"/>
            <a:ext cx="822240" cy="459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3784320" cy="204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4371840" cy="243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741640" y="5553000"/>
            <a:ext cx="373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H. Aihara @ NNN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3480" y="6021360"/>
            <a:ext cx="205668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ff0000"/>
                </a:solidFill>
                <a:latin typeface="Comic Sans MS"/>
              </a:rPr>
              <a:t>20kV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&amp;D Photodetec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3800" y="3213000"/>
            <a:ext cx="195624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amatsu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3320" y="6021360"/>
            <a:ext cx="3006360" cy="368280"/>
          </a:xfrm>
          <a:prstGeom prst="rect">
            <a:avLst/>
          </a:prstGeom>
          <a:solidFill>
            <a:srgbClr val="00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eeds low noise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751280" y="0"/>
            <a:ext cx="4392720" cy="1953000"/>
            <a:chOff x="4751280" y="0"/>
            <a:chExt cx="4392720" cy="1953000"/>
          </a:xfrm>
        </p:grpSpPr>
        <p:sp>
          <p:nvSpPr>
            <p:cNvPr id="166" name=""/>
            <p:cNvSpPr/>
            <p:nvPr/>
          </p:nvSpPr>
          <p:spPr>
            <a:xfrm>
              <a:off x="4751280" y="25560"/>
              <a:ext cx="4392720" cy="1927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iameter               20“   &lt;=&gt;    12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ojected area      1660          615    cm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QE(typ)                   20              24   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E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      60             70   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st                  2500        800  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st/p.e/cm       13              8   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6920" y="0"/>
              <a:ext cx="1297080" cy="1944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980000" y="6019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3956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1c3956"/>
                </a:solidFill>
                <a:latin typeface="Arial"/>
              </a:rPr>
              <a:t>20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13760" y="19890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MT Photonis@NNN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117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&amp;D Electro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6640"/>
            <a:ext cx="815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Integrated readout : “digital PM (bits out)”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rge measurement (12bit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ime measurement (1n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gle photoelectron sensitivit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igh counting rate capability (target 100 MHz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rge area pixellised PM 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6 low cost P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alized ASIC for DAQ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ariable gain to have only one HV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 readou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ain adjustme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bsequent versions of OPERA_ROC ASIC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Wireless?</a:t>
            </a:r>
            <a:endParaRPr b="0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597720" y="3716280"/>
            <a:ext cx="2511360" cy="2735280"/>
            <a:chOff x="6597720" y="3716280"/>
            <a:chExt cx="2511360" cy="2735280"/>
          </a:xfrm>
        </p:grpSpPr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>
              <a:off x="6597720" y="3716280"/>
              <a:ext cx="2511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6597720" y="3716280"/>
              <a:ext cx="2511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611760" y="504720"/>
            <a:ext cx="2532240" cy="285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3080" y="602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NO-LAL-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French funding agency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ANR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CNRS/IN2P3 and CE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329840"/>
            <a:ext cx="9144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mand for a Joint R&amp;D 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LAL-IPNO-LAPP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Photonis Co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3years, 400k€, 1FTE physicist, 5FTE Engineer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L: electonics: 100k€ + 1 post-do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PNO: photodetector tests + mechanics: 18Ok€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PP: Data network: 53k€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otonis: PMTs provider: 64k€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971440" y="591660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ected answer in July 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1484280"/>
            <a:ext cx="9143640" cy="3270240"/>
            <a:chOff x="0" y="1484280"/>
            <a:chExt cx="9143640" cy="3270240"/>
          </a:xfrm>
        </p:grpSpPr>
        <p:grpSp>
          <p:nvGrpSpPr>
            <p:cNvPr id="181" name=""/>
            <p:cNvGrpSpPr/>
            <p:nvPr/>
          </p:nvGrpSpPr>
          <p:grpSpPr>
            <a:xfrm>
              <a:off x="5400" y="1484280"/>
              <a:ext cx="9138240" cy="3270240"/>
              <a:chOff x="5400" y="1484280"/>
              <a:chExt cx="9138240" cy="3270240"/>
            </a:xfrm>
          </p:grpSpPr>
          <p:sp>
            <p:nvSpPr>
              <p:cNvPr id="182" name=""/>
              <p:cNvSpPr/>
              <p:nvPr/>
            </p:nvSpPr>
            <p:spPr>
              <a:xfrm>
                <a:off x="5400" y="1484280"/>
                <a:ext cx="9138240" cy="327024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6120" y="1641960"/>
                <a:ext cx="81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Year       2005                      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  <a:ea typeface="ＭＳ Ｐゴシック"/>
                  </a:rPr>
                  <a:t>2010</a:t>
                </a: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                      2015                 20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00" y="2044080"/>
                <a:ext cx="18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afety tun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39240" y="2044080"/>
                <a:ext cx="13734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11960" y="2044080"/>
                <a:ext cx="137700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xca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00" y="2404440"/>
                <a:ext cx="133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Lab cav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95240" y="2404440"/>
                <a:ext cx="25905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xca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7600" y="2404440"/>
                <a:ext cx="575640" cy="307080"/>
              </a:xfrm>
              <a:prstGeom prst="rect">
                <a:avLst/>
              </a:prstGeom>
              <a:solidFill>
                <a:srgbClr val="0078f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P.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3600" y="2404440"/>
                <a:ext cx="13053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tud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00" y="2761560"/>
                <a:ext cx="161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det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39240" y="2761560"/>
                <a:ext cx="14482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M R&amp;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95240" y="2761560"/>
                <a:ext cx="28065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MT prod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00" y="3168360"/>
                <a:ext cx="18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Det.prepa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5800" y="3119760"/>
                <a:ext cx="20163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nstal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240" y="3119760"/>
                <a:ext cx="187020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Outside la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00" y="3575880"/>
                <a:ext cx="19782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1800" y="3524400"/>
                <a:ext cx="284148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-decay, S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2080" y="3987360"/>
                <a:ext cx="1648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2880" y="3987360"/>
                <a:ext cx="28774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str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60720" y="3987360"/>
                <a:ext cx="248256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uperb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9040" y="4346640"/>
                <a:ext cx="1438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60720" y="4344480"/>
                <a:ext cx="248256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Beta b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31320" y="3121200"/>
                <a:ext cx="1836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65800" y="2403360"/>
                <a:ext cx="0" cy="255600"/>
              </a:xfrm>
              <a:prstGeom prst="line">
                <a:avLst/>
              </a:prstGeom>
              <a:ln w="936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82880" y="4344480"/>
                <a:ext cx="28774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str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51240" y="1944000"/>
                <a:ext cx="0" cy="281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0" y="3814560"/>
              <a:ext cx="3274200" cy="832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cavity digg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CERN SPL construc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EURISOL site at C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81280" y="20178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f26"/>
                </a:solidFill>
                <a:latin typeface="Arial"/>
                <a:ea typeface="ＭＳ Ｐゴシック"/>
              </a:rPr>
              <a:t>Guideline for a megaton scale Water Cheren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333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mentaire à Stav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197000"/>
            <a:ext cx="2303280" cy="2303280"/>
          </a:xfrm>
          <a:prstGeom prst="donut">
            <a:avLst>
              <a:gd name="adj" fmla="val 4817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476360" y="1557360"/>
            <a:ext cx="934920" cy="719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11280" y="98064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16360" y="2349360"/>
                <a:ext cx="5879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nA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00000" y="4149720"/>
                <a:ext cx="6299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creaning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A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9:03:07Z</dcterms:created>
  <dc:creator>J.E Campagne</dc:creator>
  <dc:description/>
  <dc:language>en-US</dc:language>
  <cp:lastModifiedBy>J.E Campagne</cp:lastModifiedBy>
  <dcterms:modified xsi:type="dcterms:W3CDTF">2006-06-21T19:34:33Z</dcterms:modified>
  <cp:revision>2</cp:revision>
  <dc:subject/>
  <dc:title>Un grand laboratoire au Fréjus pour MEMPHYS ?</dc:title>
</cp:coreProperties>
</file>